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2DE1C-2652-4A36-9435-1193B3A69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413B9-EAD1-470C-BA0B-7BF539CB5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D76DE-551F-4349-923B-7AC493F5D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2475E-1C21-41CB-B42A-A4AA76A82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1FDC1-0249-42BF-9A3A-699E1FEF0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96700-C8B3-4DA8-8FB7-1F6E08EC0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68785-9ADA-4251-A527-C2EF99011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5A516-A426-4256-B2B6-AD6A54B8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04BCE-E100-4599-8E9B-0EED56526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CFF9C-073E-4AAA-84B9-8B6C820A5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8D82-1A4E-4634-9E4A-2BA894B0A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B685D-A09F-451E-ADB9-82B04A398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3C72-552B-4B6F-96AC-328A19B0B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600200"/>
            <a:ext cx="7848720" cy="20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 of Gunpowder Empires</a:t>
            </a:r>
            <a:br>
              <a:rPr sz="4000"/>
            </a:br>
            <a:r>
              <a:rPr b="0" lang="en-US" sz="4000" spc="-1" strike="noStrike">
                <a:solidFill>
                  <a:srgbClr val="000000"/>
                </a:solidFill>
                <a:latin typeface="Arial"/>
              </a:rPr>
              <a:t>1450 – 1800</a:t>
            </a:r>
            <a:br>
              <a:rPr sz="4000"/>
            </a:br>
            <a:r>
              <a:rPr b="0" lang="en-US" sz="4000" spc="-1" strike="noStrike">
                <a:solidFill>
                  <a:srgbClr val="000000"/>
                </a:solidFill>
                <a:latin typeface="Arial"/>
              </a:rPr>
              <a:t>Changed the balance of power</a:t>
            </a:r>
            <a:endParaRPr b="0" lang="en-US" sz="4000" spc="-1" strike="noStrike">
              <a:solidFill>
                <a:srgbClr val="000000"/>
              </a:solidFill>
              <a:latin typeface="Arial"/>
            </a:endParaRPr>
          </a:p>
        </p:txBody>
      </p:sp>
      <p:sp>
        <p:nvSpPr>
          <p:cNvPr id="42" name="PlaceHolder 2"/>
          <p:cNvSpPr>
            <a:spLocks noGrp="1"/>
          </p:cNvSpPr>
          <p:nvPr>
            <p:ph type="subTitle"/>
          </p:nvPr>
        </p:nvSpPr>
        <p:spPr>
          <a:xfrm>
            <a:off x="533160" y="3733560"/>
            <a:ext cx="8001000" cy="19047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erm applies to a number of states, all of which rapidly expanded during the late 15th and over the entire 16th century. Most significant were Portugal, Spain, the Ottoman Empire, the Safavid Empire, and the Mughal Empire but also included England, France, Tokugawa (Japan), Romanov Russia, and Ming/Manchu (Qing) Ch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control</a:t>
            </a:r>
            <a:endParaRPr b="0" lang="en-US" sz="4400" spc="-1" strike="noStrike">
              <a:solidFill>
                <a:srgbClr val="000000"/>
              </a:solidFill>
              <a:latin typeface="Arial"/>
            </a:endParaRPr>
          </a:p>
        </p:txBody>
      </p:sp>
      <p:sp>
        <p:nvSpPr>
          <p:cNvPr id="63" name="PlaceHolder 2"/>
          <p:cNvSpPr>
            <a:spLocks noGrp="1"/>
          </p:cNvSpPr>
          <p:nvPr>
            <p:ph/>
          </p:nvPr>
        </p:nvSpPr>
        <p:spPr>
          <a:xfrm>
            <a:off x="-360" y="990360"/>
            <a:ext cx="89154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Safavid ruler to conquer the territory of Persia was a 14-year-old boy by the name of Ismael (Shah Ismael – Shah being the title the Safavids used for "emper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mael lived up to the legend of descent from Muhammad in his exploit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was apparently quite devout, and seemed also to be unable to lose a military campaig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red cap" army was absolutely devoted to him, and took extreme risks in his nam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mael established the first Safavid Capitol City in Isfahan, and went on to rule according to Islamic princip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claim to descent from the 12th Imam meant, of course, that he had to rule according to Shiite, rather than Sunni principles of Islam, and he and his successors were often quite brutal in forcing their subjects to become Shiite Muslims (the majority had been Sunni prior to the Safavid arriv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o this, subjects often were required to prove their change by cursing the names of the first three Calip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often small uprisings as a result and the “red cap” army of the Shah had to remain large and signific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ghals of India</a:t>
            </a:r>
            <a:endParaRPr b="0" lang="en-US" sz="4000" spc="-1" strike="noStrike">
              <a:solidFill>
                <a:srgbClr val="000000"/>
              </a:solidFill>
              <a:latin typeface="Arial"/>
            </a:endParaRPr>
          </a:p>
        </p:txBody>
      </p:sp>
      <p:sp>
        <p:nvSpPr>
          <p:cNvPr id="65"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sty whose founder Babur (1526-30) descended from the most illustrious Mongol conquerors, Ghenkis Khan and Timur, hence the na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uled most of India for three centuries before direct British rule was set in 185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iod between Babur's reign and 1707, when five of his descendants, Humayun, Akbar, Jahangir, Shah Jahan, and Aurangazeb ruled is considered the age of the Great Mugh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rchitecture </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har Bagh:</a:t>
            </a:r>
            <a:r>
              <a:rPr b="0" lang="en-US" sz="1600" spc="-1" strike="noStrike">
                <a:solidFill>
                  <a:srgbClr val="000000"/>
                </a:solidFill>
                <a:latin typeface="Arial"/>
              </a:rPr>
              <a:t> (Persian, four gardens) Quadripartite garden enclosure with a cruciform pla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zira or Rawda:</a:t>
            </a:r>
            <a:r>
              <a:rPr b="0" lang="en-US" sz="1600" spc="-1" strike="noStrike">
                <a:solidFill>
                  <a:srgbClr val="000000"/>
                </a:solidFill>
                <a:latin typeface="Arial"/>
              </a:rPr>
              <a:t> (Arabic) terms used in the Mughal period to designate a tomb or a mausoleum. The originial meaning of the former is "enclosure", the latter "garden." This suggests the garden origin of tomb-garden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sht-Bihisht:</a:t>
            </a:r>
            <a:r>
              <a:rPr b="0" lang="en-US" sz="1600" spc="-1" strike="noStrike">
                <a:solidFill>
                  <a:srgbClr val="000000"/>
                </a:solidFill>
                <a:latin typeface="Arial"/>
              </a:rPr>
              <a:t> (Persian, eight paradises) A late name to an old type of building that has a radially symmetrical plan with eight parts surrounding a central chamber which is almost always domed. In Islamic times, this plan was most suited to house a reception/audience hall, or a tomb. It was popularized by Timur and his descendants in both their palatial and religious monuments. Later developments emphasized the façades by adding turrets to the four corners, by raising the central part of the façade via a pishtak, and/or by doubling the side through chamfering the corner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tra Dura:</a:t>
            </a:r>
            <a:r>
              <a:rPr b="0" lang="en-US" sz="1600" spc="-1" strike="noStrike">
                <a:solidFill>
                  <a:srgbClr val="000000"/>
                </a:solidFill>
                <a:latin typeface="Arial"/>
              </a:rPr>
              <a:t> Semi-precious stone (lapis, onyx, jasper, topaz, and cornelian) inlays in marble following geometric or floral design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ri:</a:t>
            </a:r>
            <a:r>
              <a:rPr b="0" lang="en-US" sz="1600" spc="-1" strike="noStrike">
                <a:solidFill>
                  <a:srgbClr val="000000"/>
                </a:solidFill>
                <a:latin typeface="Arial"/>
              </a:rPr>
              <a:t> (originally Persian for umbrella) A small, vaulted pavilion used in India most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Mughal Empire</a:t>
            </a:r>
            <a:endParaRPr b="0" lang="en-US" sz="4400" spc="-1" strike="noStrike">
              <a:solidFill>
                <a:srgbClr val="000000"/>
              </a:solidFill>
              <a:latin typeface="Arial"/>
            </a:endParaRPr>
          </a:p>
        </p:txBody>
      </p:sp>
      <p:sp>
        <p:nvSpPr>
          <p:cNvPr id="67" name="PlaceHolder 2"/>
          <p:cNvSpPr>
            <a:spLocks noGrp="1"/>
          </p:cNvSpPr>
          <p:nvPr>
            <p:ph/>
          </p:nvPr>
        </p:nvSpPr>
        <p:spPr>
          <a:xfrm>
            <a:off x="152280" y="1294920"/>
            <a:ext cx="876312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ic overlords, Sunni Muslims, Mughals = Mongol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legitimacy - sharif, sayyid; Genghis Khan, Timur, Oghuz.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26-1530 -Babar, founder, rules in Kabu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30-1556 -Humay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56-1605 - Akbar, new religion attemp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5-1627Jahangir, rule of wife (Nur Jah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28-1657 Shah Jahan and Mumtaz Mah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58-1707 Aurangzib, rules after brief reigns of two brothers, proscription of Hinduism in 1668, Sikh and other upris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61 British domination ends effective power (Robert Clive represents British East India Trading Company and defeats the Mughals at the Battle of Plass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58 - Sepoy Mutiny - last emperor deposed by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ghals 1526 -1858</a:t>
            </a:r>
            <a:endParaRPr b="0" lang="en-US" sz="4000" spc="-1" strike="noStrike">
              <a:solidFill>
                <a:srgbClr val="000000"/>
              </a:solidFill>
              <a:latin typeface="Arial"/>
            </a:endParaRPr>
          </a:p>
        </p:txBody>
      </p:sp>
      <p:sp>
        <p:nvSpPr>
          <p:cNvPr id="6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of areas conquerered were Hindu</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kbar (r. 1556 – 1605), third Mughal Emperor was extremely tolerant of other religions in order to maintain legitamacy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kbar was interested in spirituality, and often enjoyed having scholars from numerous faiths into his conference chambers to hold debates on the merits of each other’s religion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ed government jobs to Hindu as well as Muslim administrators, thus giving the Hindu population the sense that it was also a part of the ruling system, and so buying off Hindu loyalty.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d the poll tax that non-Muslims must pay, making all subjects fiscally equal regardless of religious belief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one point, Akbar even created his own religion – a synthesis of what he thought was best about Islam, Judaism, Hinduism, and several other faiths. As most members of any faith had strong views about what was correct and what was not, Akbar’s attempt to gain legitimacy by creating his own religion failed. But it shows quite clearly the way that Akbar perceived religion in general and Islam specifically. For Akbar, Islam was a tool to serve the stability of the state, and so was subordinated to the needs of the state.</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kbar’s successors, Jahangir, Jahan, and Aurangzeb gradually changed that outloo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was somewhat more interested in Islam than his predecessor. Thus, by the rule of Aurangzeb (r. 1659 – 1707), the emperor had reinstated the poll tax on non-Muslims, removed Hindus from government posts, revoked the Hindu status as "people of the book," and even promoted actively the destruction of Hindu temples and their replacement with Mosques. Persecution of Hindus was tolerated, if not official policy, and the state became fully Muslim in charac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Aurangzeb was a strong enough ruler to hold India together despite this persecution of the majority of his subjects, later rulers were not, and by 1857, India had broken up into a multitude of different states ruled through the various cultures and belief systems of the majority inhabitants, and while a Mughal Emperor still sat on the throne, the English Queen actually ruled the subcontinent through a system of divide and conqu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a:t>
            </a:r>
            <a:endParaRPr b="0" lang="en-US" sz="4400" spc="-1" strike="noStrike">
              <a:solidFill>
                <a:srgbClr val="000000"/>
              </a:solidFill>
              <a:latin typeface="Arial"/>
            </a:endParaRPr>
          </a:p>
        </p:txBody>
      </p:sp>
      <p:sp>
        <p:nvSpPr>
          <p:cNvPr id="71" name="PlaceHolder 2"/>
          <p:cNvSpPr>
            <a:spLocks noGrp="1"/>
          </p:cNvSpPr>
          <p:nvPr>
            <p:ph/>
          </p:nvPr>
        </p:nvSpPr>
        <p:spPr>
          <a:xfrm>
            <a:off x="0" y="1219320"/>
            <a:ext cx="8686800" cy="5333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ns &amp; gunpowder in the 1540s, after contact with the Portugue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took advantage of their military tradition &amp; sword-making abili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late 16th century the Japanese military had 2 branch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carrying infant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ord-wielding </a:t>
            </a:r>
            <a:r>
              <a:rPr b="0" i="1" lang="en-US" sz="2400" spc="-1" strike="noStrike">
                <a:solidFill>
                  <a:srgbClr val="000000"/>
                </a:solidFill>
                <a:latin typeface="Arial"/>
              </a:rPr>
              <a:t>samurai</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new Tokugawa </a:t>
            </a:r>
            <a:r>
              <a:rPr b="0" i="1" lang="en-US" sz="2800" spc="-1" strike="noStrike">
                <a:solidFill>
                  <a:srgbClr val="000000"/>
                </a:solidFill>
                <a:latin typeface="Arial"/>
              </a:rPr>
              <a:t>shogunate</a:t>
            </a:r>
            <a:r>
              <a:rPr b="0" lang="en-US" sz="2800" spc="-1" strike="noStrike">
                <a:solidFill>
                  <a:srgbClr val="000000"/>
                </a:solidFill>
                <a:latin typeface="Arial"/>
              </a:rPr>
              <a:t> (rule of great military commanders; 1603-1868) disliked guns, so the new weapons eventually disappeared from Japan, &amp; the country became isolated until the 19th centu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kugawa Shogunate 1568 - 1868</a:t>
            </a:r>
            <a:endParaRPr b="0" lang="en-US" sz="4000" spc="-1" strike="noStrike">
              <a:solidFill>
                <a:srgbClr val="000000"/>
              </a:solidFill>
              <a:latin typeface="Arial"/>
            </a:endParaRPr>
          </a:p>
        </p:txBody>
      </p:sp>
      <p:sp>
        <p:nvSpPr>
          <p:cNvPr id="73" name="PlaceHolder 2"/>
          <p:cNvSpPr>
            <a:spLocks noGrp="1"/>
          </p:cNvSpPr>
          <p:nvPr>
            <p:ph/>
          </p:nvPr>
        </p:nvSpPr>
        <p:spPr>
          <a:xfrm>
            <a:off x="228240" y="1295280"/>
            <a:ext cx="8458200" cy="5181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ctatorship by military leaders, ruling in the name of the Emper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beginning based in Edo later moved to Toky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8-1600 Period of national unification (Azuchi-Momoyama), dictatorship of Oda Nobunaga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 - succeeded by Toyotomi (Hashiba) Hideyoshi in the Battle of Sekigahar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1605 Ieyasu (continues to rule from "retirement" until 161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5-1623 – Hideta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3-1651Iemistu - consolidation, suppression of Christianity, expulsion of foreigners, period of seclu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37-1638 - Shimbara Uprising, 37,000 Christians die at siege of Hara Cast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51-1652 - last challenge to Tokugawa rule until the 1800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16 - Kii branch of family comes to power when male line of main branch fails, first leader of this line, Yoshimune, one of ablest of the shoguns, declined sets in at his death in 1745.</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lantic Empir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ug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reat empire formed in Europe so the Atlantic countries expanded around the glob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kept a balance of power until the late 180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g to Manchu (Qing)</a:t>
            </a:r>
            <a:endParaRPr b="0" lang="en-US" sz="4400" spc="-1" strike="noStrike">
              <a:solidFill>
                <a:srgbClr val="000000"/>
              </a:solidFill>
              <a:latin typeface="Arial"/>
            </a:endParaRPr>
          </a:p>
        </p:txBody>
      </p:sp>
      <p:sp>
        <p:nvSpPr>
          <p:cNvPr id="77" name="PlaceHolder 2"/>
          <p:cNvSpPr>
            <a:spLocks noGrp="1"/>
          </p:cNvSpPr>
          <p:nvPr>
            <p:ph/>
          </p:nvPr>
        </p:nvSpPr>
        <p:spPr>
          <a:xfrm>
            <a:off x="304920" y="1218960"/>
            <a:ext cx="861048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gunpowder &amp; guns were invented in </a:t>
            </a:r>
            <a:r>
              <a:rPr b="1" lang="en-US" sz="2000" spc="-1" strike="noStrike" u="sng">
                <a:solidFill>
                  <a:srgbClr val="000000"/>
                </a:solidFill>
                <a:uFillTx/>
                <a:latin typeface="Arial"/>
              </a:rPr>
              <a:t>China</a:t>
            </a:r>
            <a:r>
              <a:rPr b="1" lang="en-US" sz="2000" spc="-1" strike="noStrike">
                <a:solidFill>
                  <a:srgbClr val="000000"/>
                </a:solidFill>
                <a:latin typeface="Arial"/>
              </a:rPr>
              <a:t>, officials of the Sung dynasty (960-1279) had little use for their inventions because they protected themselves inside fortresses &amp; walled c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xt dynasty, the Mongols (1279-1378), used guns &amp; gunpowder, but shortages of metal kept their weapons small &amp; less powerfu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g dynasty (1368-1644) reacted similarly to the Sung.  And the still-influential thinking of Confucius viewed fighting as a failure of good govern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a:t>
            </a:r>
            <a:r>
              <a:rPr b="1" i="1" lang="en-US" sz="2000" spc="-1" strike="noStrike">
                <a:solidFill>
                  <a:srgbClr val="000000"/>
                </a:solidFill>
                <a:latin typeface="Arial"/>
              </a:rPr>
              <a:t>mandarin</a:t>
            </a:r>
            <a:r>
              <a:rPr b="1" lang="en-US" sz="2000" spc="-1" strike="noStrike">
                <a:solidFill>
                  <a:srgbClr val="000000"/>
                </a:solidFill>
                <a:latin typeface="Arial"/>
              </a:rPr>
              <a:t> (public) officials did not try to provide big guns or sophisticated troop formations (as the Europeans were do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the sometimes-brilliant Qing (or Manchu) dynasty (1644-1912)--especially under the rule of Kangxi--was slow to change; not until the 19th century was the obsolescence of their military system made clear to them, but then it was too lat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rying degrees of impact</a:t>
            </a:r>
            <a:endParaRPr b="0" lang="en-US" sz="4000" spc="-1" strike="noStrike">
              <a:solidFill>
                <a:srgbClr val="000000"/>
              </a:solidFill>
              <a:latin typeface="Arial"/>
            </a:endParaRPr>
          </a:p>
        </p:txBody>
      </p:sp>
      <p:sp>
        <p:nvSpPr>
          <p:cNvPr id="44" name="PlaceHolder 2"/>
          <p:cNvSpPr>
            <a:spLocks noGrp="1"/>
          </p:cNvSpPr>
          <p:nvPr>
            <p:ph/>
          </p:nvPr>
        </p:nvSpPr>
        <p:spPr>
          <a:xfrm>
            <a:off x="151920" y="837720"/>
            <a:ext cx="85345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gunpowder weapons had some impact in most parts of the inhabited world, but each place reacted different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hina &amp; Japan, for example, guns were allowed minimal influe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countries kept themselves isolated, but then paid a high price, in the 19th century, by being vulnerable to the Wes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ile the West’s exploitation of gunpowder weapons enabled them to become wealthy &amp; to dominate much of the globe, the effort cost countless lives &amp; helped to keep Europe embroiled in war for much of modern history. </a:t>
            </a:r>
            <a:endParaRPr b="0" lang="en-US" sz="2800" spc="-1" strike="noStrike">
              <a:solidFill>
                <a:srgbClr val="000000"/>
              </a:solidFill>
              <a:latin typeface="Arial"/>
            </a:endParaRPr>
          </a:p>
        </p:txBody>
      </p:sp>
      <p:pic>
        <p:nvPicPr>
          <p:cNvPr id="45" name="" descr=""/>
          <p:cNvPicPr/>
          <p:nvPr/>
        </p:nvPicPr>
        <p:blipFill>
          <a:blip r:embed="rId1"/>
          <a:stretch/>
        </p:blipFill>
        <p:spPr>
          <a:xfrm>
            <a:off x="4800600" y="152280"/>
            <a:ext cx="3886200" cy="443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lamic Gunpowder Empires</a:t>
            </a:r>
            <a:endParaRPr b="0" lang="en-US" sz="4400" spc="-1" strike="noStrike">
              <a:solidFill>
                <a:srgbClr val="000000"/>
              </a:solidFill>
              <a:latin typeface="Arial"/>
            </a:endParaRPr>
          </a:p>
        </p:txBody>
      </p:sp>
      <p:sp>
        <p:nvSpPr>
          <p:cNvPr id="47" name="PlaceHolder 2"/>
          <p:cNvSpPr>
            <a:spLocks noGrp="1"/>
          </p:cNvSpPr>
          <p:nvPr>
            <p:ph/>
          </p:nvPr>
        </p:nvSpPr>
        <p:spPr>
          <a:xfrm>
            <a:off x="0" y="1219320"/>
            <a:ext cx="91440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lam contributed to the systems of legitimacy of the Ottomans, Safvids, and Mugh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y, that was because most of the residents of the areas these governments ruled were Muslims, and they would accept no government as legitimate that was not Musli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steppe culture which all three of these ruling groups came from assisted them in every case in the project of bending Islam to fit state nee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tomans</a:t>
            </a:r>
            <a:endParaRPr b="0" lang="en-US" sz="4000" spc="-1" strike="noStrike">
              <a:solidFill>
                <a:srgbClr val="000000"/>
              </a:solidFill>
              <a:latin typeface="Arial"/>
            </a:endParaRPr>
          </a:p>
        </p:txBody>
      </p:sp>
      <p:sp>
        <p:nvSpPr>
          <p:cNvPr id="49" name="PlaceHolder 2"/>
          <p:cNvSpPr>
            <a:spLocks noGrp="1"/>
          </p:cNvSpPr>
          <p:nvPr>
            <p:ph/>
          </p:nvPr>
        </p:nvSpPr>
        <p:spPr>
          <a:xfrm>
            <a:off x="-360" y="837720"/>
            <a:ext cx="891540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urkish dynasty named after Ghazi Osman, who established a small principality in the northwestern corner of Anatolia in the 13th centu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tomans fulfilled an Islamic dream in conquering Constantinople (Istanbul) and formed the largest empire of its time which comprised the Balkans, Greece, Anatolia, Syria, Iraq, Egypt, the Holy Cities of Arabia, Algeria, and Tunisi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pire lasted until 1924. The early Ottomans had a close relationship with sufis and dervishes, but the building of an Islamic empire brought the ulema class to the forefro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Ottoman religious architecture reflects the balancing of traditional Orthodox themes with the mystical sufi ones in its forms and fun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hazi:</a:t>
            </a:r>
            <a:r>
              <a:rPr b="0" lang="en-US" sz="2000" spc="-1" strike="noStrike">
                <a:solidFill>
                  <a:srgbClr val="000000"/>
                </a:solidFill>
                <a:latin typeface="Arial"/>
              </a:rPr>
              <a:t> Warrior or conqueror, used both as a title and as a means of attracting Turkomans to fight for the faith and for the expanding principa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khi:</a:t>
            </a:r>
            <a:r>
              <a:rPr b="0" lang="en-US" sz="2000" spc="-1" strike="noStrike">
                <a:solidFill>
                  <a:srgbClr val="000000"/>
                </a:solidFill>
                <a:latin typeface="Arial"/>
              </a:rPr>
              <a:t> Member of the Sufi network that Islamized Anatolia and formed the religious counterpart to the warrior cla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ret:</a:t>
            </a:r>
            <a:r>
              <a:rPr b="0" lang="en-US" sz="2000" spc="-1" strike="noStrike">
                <a:solidFill>
                  <a:srgbClr val="000000"/>
                </a:solidFill>
                <a:latin typeface="Arial"/>
              </a:rPr>
              <a:t> Soup kitchen, it was one of the major charitable units in any religious Ottoman complex.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khane:</a:t>
            </a:r>
            <a:r>
              <a:rPr b="0" lang="en-US" sz="2000" spc="-1" strike="noStrike">
                <a:solidFill>
                  <a:srgbClr val="000000"/>
                </a:solidFill>
                <a:latin typeface="Arial"/>
              </a:rPr>
              <a:t> Hospice, sometimes attached to a mosque for the free lodging of wandering dervishes and travel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Ottoman Empire</a:t>
            </a:r>
            <a:endParaRPr b="0" lang="en-US" sz="4400" spc="-1" strike="noStrike">
              <a:solidFill>
                <a:srgbClr val="000000"/>
              </a:solidFill>
              <a:latin typeface="Arial"/>
            </a:endParaRPr>
          </a:p>
        </p:txBody>
      </p:sp>
      <p:sp>
        <p:nvSpPr>
          <p:cNvPr id="51" name="PlaceHolder 2"/>
          <p:cNvSpPr>
            <a:spLocks noGrp="1"/>
          </p:cNvSpPr>
          <p:nvPr>
            <p:ph/>
          </p:nvPr>
        </p:nvSpPr>
        <p:spPr>
          <a:xfrm>
            <a:off x="228600" y="1371240"/>
            <a:ext cx="876312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1-state founded by Osman (Ottom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53 - fall of Constantinople to the Ottomans (Mehmed II the Conquer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0-1566 - reign of Sulieman I the Magnific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9- first siege of Vienn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71- Battle of Lepanto, first major defeat of the Ottomans by the Europe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3- second siege of Vienn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99 - Treaty of C/Karlowitz, beginning of the end for the Ottomans - Austria, Poland, and Venice take major chunks of the Balkans from the Ottom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8-1924 - collapse of the Empire - political power then religious power (rise of the Young Tu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toman Janissaries</a:t>
            </a:r>
            <a:endParaRPr b="0" lang="en-US" sz="4000" spc="-1" strike="noStrike">
              <a:solidFill>
                <a:srgbClr val="000000"/>
              </a:solidFill>
              <a:latin typeface="Arial"/>
            </a:endParaRPr>
          </a:p>
        </p:txBody>
      </p:sp>
      <p:sp>
        <p:nvSpPr>
          <p:cNvPr id="53" name="PlaceHolder 2"/>
          <p:cNvSpPr>
            <a:spLocks noGrp="1"/>
          </p:cNvSpPr>
          <p:nvPr>
            <p:ph/>
          </p:nvPr>
        </p:nvSpPr>
        <p:spPr>
          <a:xfrm>
            <a:off x="151920" y="914400"/>
            <a:ext cx="853452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ops raised by the Ottomans from Christian families in the Balkans, used as special shock troops and as palace guard, became most powerful force in the Ottoman Empire, massacred under the orders of Mahmud II in 182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issaries were non-Muslim boys received by the sultan’s government in the </a:t>
            </a:r>
            <a:r>
              <a:rPr b="0" i="1" lang="en-US" sz="2000" spc="-1" strike="noStrike">
                <a:solidFill>
                  <a:srgbClr val="000000"/>
                </a:solidFill>
                <a:latin typeface="Arial"/>
              </a:rPr>
              <a:t>devshirme</a:t>
            </a:r>
            <a:r>
              <a:rPr b="0" lang="en-US" sz="2000" spc="-1" strike="noStrike">
                <a:solidFill>
                  <a:srgbClr val="000000"/>
                </a:solidFill>
                <a:latin typeface="Arial"/>
              </a:rPr>
              <a:t> – a kind of tax levied mostly on the </a:t>
            </a:r>
            <a:r>
              <a:rPr b="0" i="1" lang="en-US" sz="2000" spc="-1" strike="noStrike">
                <a:solidFill>
                  <a:srgbClr val="000000"/>
                </a:solidFill>
                <a:latin typeface="Arial"/>
              </a:rPr>
              <a:t>Christian</a:t>
            </a:r>
            <a:r>
              <a:rPr b="0" lang="en-US" sz="2000" spc="-1" strike="noStrike">
                <a:solidFill>
                  <a:srgbClr val="000000"/>
                </a:solidFill>
                <a:latin typeface="Arial"/>
              </a:rPr>
              <a:t> subjects of the empire who lived in the Balkans in Eastern Europ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boys were taken to Istanbul and trained in three languages, fighting arts, accounting, government, literature, history, and of course, Islam and the Qur’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slaves, but well paid for their services, well educated by the government, and given everything they had by the sultan from their earliest yea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thus loyal only to the sultan, and so could defend him in the event that the aristocracy revolt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nissaries were the only soldiers given </a:t>
            </a:r>
            <a:r>
              <a:rPr b="1" lang="en-US" sz="2000" spc="-1" strike="noStrike">
                <a:solidFill>
                  <a:srgbClr val="000000"/>
                </a:solidFill>
                <a:latin typeface="Arial"/>
              </a:rPr>
              <a:t>gunpowder weap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lso worked at the highest levels of the army and the government as advisors, and retired to large estates provided by the sultan himsel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thus set in opposition to the aristocrats, and provided support and legitimacy to the sulta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of the Sultan</a:t>
            </a:r>
            <a:endParaRPr b="0" lang="en-US" sz="4000" spc="-1" strike="noStrike">
              <a:solidFill>
                <a:srgbClr val="000000"/>
              </a:solidFill>
              <a:latin typeface="Arial"/>
            </a:endParaRPr>
          </a:p>
        </p:txBody>
      </p:sp>
      <p:sp>
        <p:nvSpPr>
          <p:cNvPr id="55" name="PlaceHolder 2"/>
          <p:cNvSpPr>
            <a:spLocks noGrp="1"/>
          </p:cNvSpPr>
          <p:nvPr>
            <p:ph/>
          </p:nvPr>
        </p:nvSpPr>
        <p:spPr>
          <a:xfrm>
            <a:off x="228240" y="990360"/>
            <a:ext cx="845820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toman sultan’s primary responsibility was not to himself, his army, or the aristocrats, but to the common people of his empi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r support was considered crucial to the ability of the sultan to rule, and so the sultan took very seriously his responsibility to protect ordinary people from the power and corruption of the aristocratic cla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leiman II went so far as to disguise himself and visit administrative and legal hearings to be sure that commoners were given fair treat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 found corruption, he convicted the perpetrators immediately, and there was no appe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nishment was either severe beating or death, and even close friendship with the sultan could not change the outco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tective role ensured that the common people would see the sultan as their only true protector, and so set them in opposition to the aristocra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atus</a:t>
            </a:r>
            <a:endParaRPr b="0" lang="en-US" sz="4400" spc="-1" strike="noStrike">
              <a:solidFill>
                <a:srgbClr val="000000"/>
              </a:solidFill>
              <a:latin typeface="Arial"/>
            </a:endParaRPr>
          </a:p>
        </p:txBody>
      </p:sp>
      <p:sp>
        <p:nvSpPr>
          <p:cNvPr id="57" name="PlaceHolder 2"/>
          <p:cNvSpPr>
            <a:spLocks noGrp="1"/>
          </p:cNvSpPr>
          <p:nvPr>
            <p:ph/>
          </p:nvPr>
        </p:nvSpPr>
        <p:spPr>
          <a:xfrm>
            <a:off x="304920" y="1294920"/>
            <a:ext cx="8686800" cy="5334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system, it seems clear, the most important indicator of social position is one’s relationship to the sult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defined outright through a system that assigned everyone in society a military ran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rank controlled wages, taxation, social status, and employability for everyone, whether soldier or no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ranks were assigned to the </a:t>
            </a:r>
            <a:r>
              <a:rPr b="0" i="1" lang="en-US" sz="2000" spc="-1" strike="noStrike">
                <a:solidFill>
                  <a:srgbClr val="000000"/>
                </a:solidFill>
                <a:latin typeface="Arial"/>
              </a:rPr>
              <a:t>Ulama</a:t>
            </a:r>
            <a:r>
              <a:rPr b="0" lang="en-US" sz="2000" spc="-1" strike="noStrike">
                <a:solidFill>
                  <a:srgbClr val="000000"/>
                </a:solidFill>
                <a:latin typeface="Arial"/>
              </a:rPr>
              <a:t>, who, because this was an Islamic state, still had control over the interpretation of the law.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ingly, the </a:t>
            </a:r>
            <a:r>
              <a:rPr b="0" i="1" lang="en-US" sz="1800" spc="-1" strike="noStrike">
                <a:solidFill>
                  <a:srgbClr val="000000"/>
                </a:solidFill>
                <a:latin typeface="Arial"/>
              </a:rPr>
              <a:t>ulama</a:t>
            </a:r>
            <a:r>
              <a:rPr b="0" lang="en-US" sz="1800" spc="-1" strike="noStrike">
                <a:solidFill>
                  <a:srgbClr val="000000"/>
                </a:solidFill>
                <a:latin typeface="Arial"/>
              </a:rPr>
              <a:t> were also paid according to their rank, and their rank was often assigned based on how well their interpretations of the Qur’an suited the needs of the sultan’s governmen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is system, the sultans were able eventually to get </a:t>
            </a:r>
            <a:r>
              <a:rPr b="0" i="1" lang="en-US" sz="2000" spc="-1" strike="noStrike">
                <a:solidFill>
                  <a:srgbClr val="000000"/>
                </a:solidFill>
                <a:latin typeface="Arial"/>
              </a:rPr>
              <a:t>Ulama </a:t>
            </a:r>
            <a:r>
              <a:rPr b="0" lang="en-US" sz="2000" spc="-1" strike="noStrike">
                <a:solidFill>
                  <a:srgbClr val="000000"/>
                </a:solidFill>
                <a:latin typeface="Arial"/>
              </a:rPr>
              <a:t>to agree that there were some areas which Qur’an-ic law did not address – such as collection of taxes to provide government services – for which laws might properly be made by the govern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ave the sultans the loophole that they needed to make law as well as enforce it, even in an Islamic st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favids (1501-1732)</a:t>
            </a:r>
            <a:endParaRPr b="0" lang="en-US" sz="4000" spc="-1" strike="noStrike">
              <a:solidFill>
                <a:srgbClr val="000000"/>
              </a:solidFill>
              <a:latin typeface="Arial"/>
            </a:endParaRPr>
          </a:p>
        </p:txBody>
      </p:sp>
      <p:sp>
        <p:nvSpPr>
          <p:cNvPr id="59" name="PlaceHolder 2"/>
          <p:cNvSpPr>
            <a:spLocks noGrp="1"/>
          </p:cNvSpPr>
          <p:nvPr>
            <p:ph/>
          </p:nvPr>
        </p:nvSpPr>
        <p:spPr>
          <a:xfrm>
            <a:off x="0" y="838080"/>
            <a:ext cx="510552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scure origin which is most probably Sunni and Kurdish, the Safavids (named after a sufi master, Shaykh Safi) forged for themselves an illustrious genealogy that goes back to `Ali, and proceeded to forcibly change Iran into a Shiite stat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process they shaped the modern image of the Iranian n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hah Abbas I (1588-162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reatest Safavid monarch, he moved the capital to Isfahan in 1598, and built there a royal city that extended to the south of the old city and connected it with the Zayandeh river via a wide avenue, the Chahar Bagh (Four Gardens) Avenu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h Abbas's royal buildings were organized around his central Maydan or along the Chahar Bagh Avenue. </a:t>
            </a:r>
            <a:endParaRPr b="0" lang="en-US" sz="2000" spc="-1" strike="noStrike">
              <a:solidFill>
                <a:srgbClr val="000000"/>
              </a:solidFill>
              <a:latin typeface="Arial"/>
            </a:endParaRPr>
          </a:p>
        </p:txBody>
      </p:sp>
      <p:sp>
        <p:nvSpPr>
          <p:cNvPr id="60" name="PlaceHolder 3"/>
          <p:cNvSpPr>
            <a:spLocks noGrp="1"/>
          </p:cNvSpPr>
          <p:nvPr>
            <p:ph/>
          </p:nvPr>
        </p:nvSpPr>
        <p:spPr>
          <a:xfrm>
            <a:off x="5562720" y="5715000"/>
            <a:ext cx="3581280" cy="9907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ydan-i-Shah</a:t>
            </a:r>
            <a:r>
              <a:rPr b="0" lang="en-US" sz="1200" spc="-1" strike="noStrike">
                <a:solidFill>
                  <a:srgbClr val="000000"/>
                </a:solidFill>
                <a:latin typeface="Arial"/>
              </a:rPr>
              <a:t> Among the largest open squares in the world (1700 by 525 ft), it was the focal point of Shah `Abbas's plan. Its four sides were lined up with shops on two levels, and each side of the Maydan had a monumental structure in its centre.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 name="" descr=""/>
          <p:cNvPicPr/>
          <p:nvPr/>
        </p:nvPicPr>
        <p:blipFill>
          <a:blip r:embed="rId1"/>
          <a:stretch/>
        </p:blipFill>
        <p:spPr>
          <a:xfrm>
            <a:off x="5118120" y="2590920"/>
            <a:ext cx="4025880" cy="261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11:42:35Z</dcterms:created>
  <dc:creator>Donnie Huckaby</dc:creator>
  <dc:description/>
  <dc:language>en-US</dc:language>
  <cp:lastModifiedBy>Donnie</cp:lastModifiedBy>
  <dcterms:modified xsi:type="dcterms:W3CDTF">2007-12-10T11:15:10Z</dcterms:modified>
  <cp:revision>21</cp:revision>
  <dc:subject/>
  <dc:title>Gunpowder Empires</dc:title>
</cp:coreProperties>
</file>